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2731-81ED-4AE6-9FE0-5C896C7609F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AN BE EAS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second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ow!  You’ve just completed every step of DMSB! But, wait!  There’s mor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4 becomes the second part of your quotient.  You’re almost don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4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4 = 12                             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subtract to see the difference between the number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ood!  We know 14-12 = 2.  Leave your 2 in it’s spot, because we’re going to use it for the bring down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you bring down, you’re moving the next part of your dividend into your workspac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ut wait!!  There’s nothing to bring down!!  This is OK!  You have no more numbers in your dividend to add to your workspace so you’re almost done!  If there was a third number in our dividend, then we would start DMSB all over again!  You want to keep going until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.O - To know how to use DMSB to work out long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.T-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(Remember To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remainder is what you have left over (or what is remaining) after you have nothing to bring dow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problem, the remainder is 2  because 14-12 = 2.  Write your remainder next to your answ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6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-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 is the order of operations for division.  It stands for Divide, Multiply, Subtract, 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sor is the number of groups we are dividing into or the number we are dividing by. In 2)81  2 is the diviso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ividend is the number we break into groups. In 2)81  81 is the divide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nothing to bring dow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et's Review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try these problems on your own!  Remember DMSB.  When you’re finished, move to the next slide to check your answers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did a really awesome job with DMSB.  Remember!  Long division can be easy!  And when you need a little help just think of DMSB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Keep dividing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MS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trac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ring Dow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Looks scary, huh?  Well, when you use DMSB It can be simple.  Move to the next slide to get started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dend.  The dividend is the number we break into group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the divisor. The divisor is the number of groups we are dividing into or the number we are dividing b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irst, we want to DIV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IV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’ve just completed the divide.  Now, we’ll move onto multipl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2 becomes the first part of your quotient.  The quotient is the answer in divis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ext, you want to multiply 3 times 2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3 x 2= 6                            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multiply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ULTIP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ow, we want to move on to subtract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782D-CCA0-4526-93AC-E333F10A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AFA-C480-477E-90BF-CC76C8D4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BD8A-CF80-4ED1-A086-80FEE3F01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CCF-E79C-48C6-A11B-A28155885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94FC-490D-46FA-A1EC-005CFE09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7A6F-D327-4E20-8AE6-250EAD7B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F2EB-04EB-46F9-89AA-7B95AB88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716F-B474-4FEB-8016-1F8D6A0B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313A-DBD8-4A47-86EA-29869A68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67B5E-78B7-4E0E-946B-F9176928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2413-3CE1-47C8-873A-125D9527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7F7-7FC0-4261-93F5-18C39FF1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8E413-2497-4C3B-8721-0E69F838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17339-FC47-499B-BD0B-2A839107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64AD-0432-4328-BD9B-AF668C5A3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076-8615-4C9F-8424-8291A064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6AA5-A5BE-4FD5-9726-C3B357F5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D39-349B-46FC-A31B-FD1FD93F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10F3-7555-4BCB-9FB6-1A947D53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3529-791C-4D67-B690-2D6B870DF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8393-E765-4F08-97FA-A6737A1A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D780-60D5-408F-AC46-BD23EB67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AAF9-8CFD-4DB1-A0DE-35C44881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9FB7-A834-4586-AD0C-BE549F88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DA1A-E81F-40FC-B22C-5CF5121BA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4D26-3023-4A7D-B33B-605DEEFD85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1066680" y="2362320"/>
            <a:ext cx="70106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LONG DIVISION 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8000">
                  <a:solidFill>
                    <a:srgbClr val="000000"/>
                  </a:solidFill>
                  <a:miter/>
                </a:ln>
                <a:noFill/>
                <a:effectLst>
                  <a:outerShdw dist="23023" dir="7017942" blurRad="0" rotWithShape="0">
                    <a:srgbClr val="000000">
                      <a:alpha val="50000"/>
                    </a:srgbClr>
                  </a:outerShdw>
                </a:effectLst>
                <a:latin typeface="comic"/>
              </a:rPr>
              <a:t>CAN BE EASY!</a:t>
            </a:r>
            <a:endParaRPr b="1" lang="en-US" sz="6000" spc="1" strike="noStrike">
              <a:ln w="18000">
                <a:solidFill>
                  <a:srgbClr val="000000"/>
                </a:solidFill>
                <a:miter/>
              </a:ln>
              <a:noFill/>
              <a:effectLst>
                <a:outerShdw dist="23023" dir="7017942" blurRad="0" rotWithShape="0">
                  <a:srgbClr val="000000">
                    <a:alpha val="50000"/>
                  </a:srgbClr>
                </a:outerShdw>
              </a:effectLst>
              <a:latin typeface="comic"/>
              <a:ea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 that we know how many times 3 goes into 7, we have to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</a:t>
            </a:r>
            <a:r>
              <a:rPr b="0" lang="en-US" sz="2800" spc="-1" strike="noStrike" u="sng">
                <a:solidFill>
                  <a:srgbClr val="9900cc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od!  We know 7 – 6 = 1.  Leave your 1 in it’s spot, because we’re going to use it for the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Line 4"/>
          <p:cNvSpPr/>
          <p:nvPr/>
        </p:nvSpPr>
        <p:spPr>
          <a:xfrm>
            <a:off x="441972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you’re moving the second part of your dividend into your workspac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4419720" y="4038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Line 5"/>
          <p:cNvSpPr/>
          <p:nvPr/>
        </p:nvSpPr>
        <p:spPr>
          <a:xfrm>
            <a:off x="4876920" y="4419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w!  You’ve just completed every step of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!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ut, wait!  There’s more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66ffff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 now have a new number          and we have to start all over again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Line 4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6"/>
          <p:cNvSpPr/>
          <p:nvPr/>
        </p:nvSpPr>
        <p:spPr>
          <a:xfrm rot="15737400">
            <a:off x="5188680" y="3878280"/>
            <a:ext cx="1073160" cy="1087560"/>
          </a:xfrm>
          <a:custGeom>
            <a:avLst/>
            <a:gdLst>
              <a:gd name="textAreaLeft" fmla="*/ 187560 w 1073160"/>
              <a:gd name="textAreaRight" fmla="*/ 777960 w 1073160"/>
              <a:gd name="textAreaTop" fmla="*/ 145440 h 1087560"/>
              <a:gd name="textAreaBottom" fmla="*/ 942120 h 108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k yourself:  “How many times can 3 go into 14?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114800" y="1676520"/>
          <a:ext cx="5029200" cy="4529160"/>
        </p:xfrm>
        <a:graphic>
          <a:graphicData uri="http://schemas.openxmlformats.org/drawingml/2006/table">
            <a:tbl>
              <a:tblPr/>
              <a:tblGrid>
                <a:gridCol w="2438280"/>
                <a:gridCol w="2590920"/>
              </a:tblGrid>
              <a:tr h="4553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Line 12"/>
          <p:cNvSpPr/>
          <p:nvPr/>
        </p:nvSpPr>
        <p:spPr>
          <a:xfrm>
            <a:off x="243828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14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4 times because 3 x 4 is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times is too high since 3 x 5 = 1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191120" y="1371600"/>
          <a:ext cx="4419360" cy="4495680"/>
        </p:xfrm>
        <a:graphic>
          <a:graphicData uri="http://schemas.openxmlformats.org/drawingml/2006/table">
            <a:tbl>
              <a:tblPr/>
              <a:tblGrid>
                <a:gridCol w="2211120"/>
                <a:gridCol w="2208240"/>
              </a:tblGrid>
              <a:tr h="449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4 = 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5 = 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Line 13"/>
          <p:cNvSpPr/>
          <p:nvPr/>
        </p:nvSpPr>
        <p:spPr>
          <a:xfrm>
            <a:off x="2895480" y="3809880"/>
            <a:ext cx="13716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place your 4 above the 4, because 3 goes into 14 four tim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Line 4"/>
          <p:cNvSpPr/>
          <p:nvPr/>
        </p:nvSpPr>
        <p:spPr>
          <a:xfrm flipH="1">
            <a:off x="5181120" y="29718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4 becomes the second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You’re almost don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6"/>
          <p:cNvSpPr/>
          <p:nvPr/>
        </p:nvSpPr>
        <p:spPr>
          <a:xfrm>
            <a:off x="4495680" y="32004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4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4 = 12 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14 four times, but now we have to find out how close to 14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Line 4"/>
          <p:cNvSpPr/>
          <p:nvPr/>
        </p:nvSpPr>
        <p:spPr>
          <a:xfrm>
            <a:off x="4495680" y="25909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Line 5"/>
          <p:cNvSpPr/>
          <p:nvPr/>
        </p:nvSpPr>
        <p:spPr>
          <a:xfrm>
            <a:off x="2286000" y="373392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040" y="-305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 that we know how many times 3 goes into 14, we have to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o see the difference between the numb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                               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                                    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Comic Sans MS"/>
              </a:rPr>
              <a:t>-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od!  We know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14-12 = 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 Leave your 2 in it’s spot, because we’re going to use it for the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4419720" y="2819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7720" y="1371240"/>
            <a:ext cx="7696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you’re moving the next part of your dividend into your workspac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t wait!!  There’s nothing to 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ring down!!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s is OK!  You have no more numbers in your dividend to add to your workspace so you’re almost done!  If there was a third number in our dividend, then we would start </a:t>
            </a: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0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0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0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l over again!  You want to keep going until you have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 bring dow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4419720" y="22096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5029200" y="2666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b3a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2120" y="12193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L.O -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o know how to use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to work out long divis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R.T-</a:t>
            </a:r>
            <a:r>
              <a:rPr b="0" lang="en-GB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33cc"/>
                </a:solidFill>
                <a:latin typeface="Comic Sans MS"/>
              </a:rPr>
              <a:t>(Remember To)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what you have left over (or what is remaining) after you have nothing to bring down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4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R - 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1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000" spc="-1" strike="noStrike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 this problem, the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2  because 14-12 = 2.  Write your </a:t>
            </a:r>
            <a:r>
              <a:rPr b="1" lang="en-US" sz="2000" spc="-1" strike="noStrike">
                <a:solidFill>
                  <a:srgbClr val="ff6600"/>
                </a:solidFill>
                <a:latin typeface="Comic Sans MS"/>
              </a:rPr>
              <a:t>remainder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xt to your answ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5410080" y="3124080"/>
            <a:ext cx="609840" cy="1524240"/>
          </a:xfrm>
          <a:custGeom>
            <a:avLst/>
            <a:gdLst>
              <a:gd name="textAreaLeft" fmla="*/ 0 w 609840"/>
              <a:gd name="textAreaRight" fmla="*/ 522720 w 609840"/>
              <a:gd name="textAreaTop" fmla="*/ 1016280 h 1524240"/>
              <a:gd name="textAreaBottom" fmla="*/ 1524600 h 1524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6"/>
          <p:cNvSpPr/>
          <p:nvPr/>
        </p:nvSpPr>
        <p:spPr>
          <a:xfrm>
            <a:off x="4495680" y="2971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e is what your division problem should look lik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4     R - 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)74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1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-1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4"/>
          <p:cNvSpPr/>
          <p:nvPr/>
        </p:nvSpPr>
        <p:spPr>
          <a:xfrm>
            <a:off x="449568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order of operations for division.  It stands for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ubtrac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ring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Comic Sans MS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of groups we are dividing into or the number we are dividing by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number we break into groups. In 2)81 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81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quotien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the answer in divisio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ember!  You want to keep going until              you hav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h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ring dow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5"/>
          <p:cNvSpPr/>
          <p:nvPr/>
        </p:nvSpPr>
        <p:spPr>
          <a:xfrm>
            <a:off x="2666880" y="304812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Line 6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WordArt 7"/>
          <p:cNvSpPr txBox="1"/>
          <p:nvPr/>
        </p:nvSpPr>
        <p:spPr>
          <a:xfrm>
            <a:off x="1676520" y="0"/>
            <a:ext cx="5790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Let's Review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 It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24800" cy="160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w, try these problems on your own!  Remember </a:t>
            </a: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.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en you’re finished, move to the next slide to check your answ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533520" y="3200400"/>
          <a:ext cx="8381880" cy="28954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  <a:gridCol w="2095560"/>
                <a:gridCol w="2095560"/>
              </a:tblGrid>
              <a:tr h="28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Line 18"/>
          <p:cNvSpPr/>
          <p:nvPr/>
        </p:nvSpPr>
        <p:spPr>
          <a:xfrm>
            <a:off x="14479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19"/>
          <p:cNvSpPr/>
          <p:nvPr/>
        </p:nvSpPr>
        <p:spPr>
          <a:xfrm>
            <a:off x="350532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20"/>
          <p:cNvSpPr/>
          <p:nvPr/>
        </p:nvSpPr>
        <p:spPr>
          <a:xfrm>
            <a:off x="56386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21"/>
          <p:cNvSpPr/>
          <p:nvPr/>
        </p:nvSpPr>
        <p:spPr>
          <a:xfrm>
            <a:off x="7696080" y="3809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457200" y="2133720"/>
          <a:ext cx="8381880" cy="410184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  <a:gridCol w="2095560"/>
                <a:gridCol w="2095200"/>
              </a:tblGrid>
              <a:tr h="41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 r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)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9 r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)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3 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)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1 r 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)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Line 16"/>
          <p:cNvSpPr/>
          <p:nvPr/>
        </p:nvSpPr>
        <p:spPr>
          <a:xfrm>
            <a:off x="13716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7"/>
          <p:cNvSpPr/>
          <p:nvPr/>
        </p:nvSpPr>
        <p:spPr>
          <a:xfrm>
            <a:off x="342900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8"/>
          <p:cNvSpPr/>
          <p:nvPr/>
        </p:nvSpPr>
        <p:spPr>
          <a:xfrm>
            <a:off x="55627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9"/>
          <p:cNvSpPr/>
          <p:nvPr/>
        </p:nvSpPr>
        <p:spPr>
          <a:xfrm>
            <a:off x="76201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eck Yourself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1752480" y="304812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8862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594360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Line 26"/>
          <p:cNvSpPr/>
          <p:nvPr/>
        </p:nvSpPr>
        <p:spPr>
          <a:xfrm>
            <a:off x="8077320" y="31240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did a really awesome job with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.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member!  Long division can be easy!  And when you need a little help just think of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2819520" y="5715000"/>
            <a:ext cx="36860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Keep dividing!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-2289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4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4400" spc="-1" strike="noStrike">
                <a:solidFill>
                  <a:srgbClr val="00ff00"/>
                </a:solidFill>
                <a:latin typeface="Comic Sans MS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DMSB?  You wond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stands for the order of long divi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0" lang="en-US" sz="3200" spc="-1" strike="noStrike">
                <a:solidFill>
                  <a:srgbClr val="0000ff"/>
                </a:solidFill>
                <a:latin typeface="Comic Sans MS"/>
              </a:rPr>
              <a:t>ivid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ultipl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ubtr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Comic Sans MS"/>
              </a:rPr>
              <a:t>ring Dow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ng Divis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a look at this division problem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 )74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oks scary, huh?  Well, when you use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D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1" lang="en-US" sz="3200" spc="-1" strike="noStrike">
                <a:solidFill>
                  <a:srgbClr val="9900cc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can be simple.  Move to the next slide to get started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441972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25744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19920" y="2362320"/>
            <a:ext cx="1676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800" spc="-1" strike="noStrike">
                <a:solidFill>
                  <a:srgbClr val="ff66ff"/>
                </a:solidFill>
                <a:latin typeface="Comic Sans MS"/>
              </a:rPr>
              <a:t>dividend</a:t>
            </a: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.  The dividend is the number we break into grou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Line 16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609480" y="2438280"/>
            <a:ext cx="20574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is is the </a:t>
            </a:r>
            <a:r>
              <a:rPr b="1" lang="en-US" sz="1400" spc="-1" strike="noStrike">
                <a:solidFill>
                  <a:srgbClr val="ff66ff"/>
                </a:solidFill>
                <a:latin typeface="Comic Sans MS"/>
              </a:rPr>
              <a:t>divisor</a:t>
            </a:r>
            <a:r>
              <a:rPr b="1" i="1" lang="en-US" sz="1400" spc="-1" strike="noStrike">
                <a:solidFill>
                  <a:srgbClr val="ff66ff"/>
                </a:solidFill>
                <a:latin typeface="Comic Sans MS"/>
              </a:rPr>
              <a:t>. </a:t>
            </a:r>
            <a:r>
              <a:rPr b="0" lang="en-US" sz="1400" spc="-1" strike="noStrike">
                <a:solidFill>
                  <a:srgbClr val="ff66ff"/>
                </a:solidFill>
                <a:latin typeface="Comic Sans MS"/>
              </a:rPr>
              <a:t>The divisor is the number of groups we are dividing into or the number we are dividing b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rst, we want to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DIVID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k yourself:  “How many times can 3 go into 7?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4605480" y="1828800"/>
          <a:ext cx="3776400" cy="3657600"/>
        </p:xfrm>
        <a:graphic>
          <a:graphicData uri="http://schemas.openxmlformats.org/drawingml/2006/table">
            <a:tbl>
              <a:tblPr/>
              <a:tblGrid>
                <a:gridCol w="1888920"/>
                <a:gridCol w="188748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Line 14"/>
          <p:cNvSpPr/>
          <p:nvPr/>
        </p:nvSpPr>
        <p:spPr>
          <a:xfrm>
            <a:off x="2438280" y="4724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67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 want to find the closest number to 7 without going over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his case it’s 2 times because 3 x 2 is 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times is too high since 3 x 3 = 9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419720" y="1905120"/>
          <a:ext cx="4572000" cy="3657600"/>
        </p:xfrm>
        <a:graphic>
          <a:graphicData uri="http://schemas.openxmlformats.org/drawingml/2006/table">
            <a:tbl>
              <a:tblPr/>
              <a:tblGrid>
                <a:gridCol w="2287440"/>
                <a:gridCol w="2284560"/>
              </a:tblGrid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hink of your multiplication facts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1 =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2 =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 x 3 = 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r, draw an arra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 O 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Line 13"/>
          <p:cNvSpPr/>
          <p:nvPr/>
        </p:nvSpPr>
        <p:spPr>
          <a:xfrm>
            <a:off x="3733920" y="4038480"/>
            <a:ext cx="6858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DIV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place your 2 above the 7, because 3 goes into 7 two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66ff"/>
                </a:solidFill>
                <a:latin typeface="Comic Sans MS"/>
              </a:rPr>
              <a:t>2</a:t>
            </a:r>
            <a:r>
              <a:rPr b="0" lang="en-US" sz="28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)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ou’ve just completed the </a:t>
            </a: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divid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w, we’ll move on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Line 4"/>
          <p:cNvSpPr/>
          <p:nvPr/>
        </p:nvSpPr>
        <p:spPr>
          <a:xfrm flipH="1">
            <a:off x="5105160" y="35053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7010280" y="2590920"/>
            <a:ext cx="198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The 2 becomes the first part of your </a:t>
            </a:r>
            <a:r>
              <a:rPr b="1" lang="en-US" sz="1800" spc="-1" strike="noStrike">
                <a:solidFill>
                  <a:srgbClr val="ff66ff"/>
                </a:solidFill>
                <a:latin typeface="Bauhaus 93"/>
              </a:rPr>
              <a:t>quotient.</a:t>
            </a:r>
            <a:r>
              <a:rPr b="1" lang="en-US" sz="1800" spc="-1" strike="noStrike">
                <a:solidFill>
                  <a:srgbClr val="ff66ff"/>
                </a:solidFill>
                <a:latin typeface="Arial"/>
              </a:rPr>
              <a:t>  The quotient is the answer in divisi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6"/>
          <p:cNvSpPr/>
          <p:nvPr/>
        </p:nvSpPr>
        <p:spPr>
          <a:xfrm>
            <a:off x="441972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xt, you want to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 times 2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400" spc="-1" strike="noStrike" u="sng">
                <a:solidFill>
                  <a:srgbClr val="ff66ff"/>
                </a:solidFill>
                <a:uFillTx/>
                <a:latin typeface="Comic Sans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)7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x 2= 6                           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 do this because we said that 3 can go into 7 two times, but now we have to find out how close to 7 we can get.  So w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4419720" y="30481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2057400" y="35812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ULTIP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at was a really simple step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, we want to move on to </a:t>
            </a: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ubtra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2:41:07Z</dcterms:created>
  <dc:creator>corinn</dc:creator>
  <dc:description/>
  <dc:language>en-US</dc:language>
  <cp:lastModifiedBy>LEGION</cp:lastModifiedBy>
  <dcterms:modified xsi:type="dcterms:W3CDTF">2015-09-08T10:01:39Z</dcterms:modified>
  <cp:revision>22</cp:revision>
  <dc:subject/>
  <dc:title>Long Division Can Be Easy!</dc:title>
</cp:coreProperties>
</file>